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57.xml"/><Relationship Id="rId14" Type="http://schemas.openxmlformats.org/officeDocument/2006/relationships/slideLayout" Target="../slideLayouts/slideLayout158.xml"/><Relationship Id="rId15" Type="http://schemas.openxmlformats.org/officeDocument/2006/relationships/slideLayout" Target="../slideLayouts/slideLayout159.xml"/><Relationship Id="rId16" Type="http://schemas.openxmlformats.org/officeDocument/2006/relationships/slideLayout" Target="../slideLayouts/slideLayout160.xml"/><Relationship Id="rId17" Type="http://schemas.openxmlformats.org/officeDocument/2006/relationships/slideLayout" Target="../slideLayouts/slideLayout161.xml"/><Relationship Id="rId18" Type="http://schemas.openxmlformats.org/officeDocument/2006/relationships/slideLayout" Target="../slideLayouts/slideLayout162.xml"/><Relationship Id="rId19" Type="http://schemas.openxmlformats.org/officeDocument/2006/relationships/slideLayout" Target="../slideLayouts/slideLayout163.xml"/><Relationship Id="rId20" Type="http://schemas.openxmlformats.org/officeDocument/2006/relationships/slideLayout" Target="../slideLayouts/slideLayout164.xml"/><Relationship Id="rId21" Type="http://schemas.openxmlformats.org/officeDocument/2006/relationships/slideLayout" Target="../slideLayouts/slideLayout165.xml"/><Relationship Id="rId22" Type="http://schemas.openxmlformats.org/officeDocument/2006/relationships/slideLayout" Target="../slideLayouts/slideLayout166.xml"/><Relationship Id="rId23" Type="http://schemas.openxmlformats.org/officeDocument/2006/relationships/slideLayout" Target="../slideLayouts/slideLayout167.xml"/><Relationship Id="rId2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81.xml"/><Relationship Id="rId12" Type="http://schemas.openxmlformats.org/officeDocument/2006/relationships/slideLayout" Target="../slideLayouts/slideLayout182.xml"/><Relationship Id="rId13" Type="http://schemas.openxmlformats.org/officeDocument/2006/relationships/slideLayout" Target="../slideLayouts/slideLayout183.xml"/><Relationship Id="rId14" Type="http://schemas.openxmlformats.org/officeDocument/2006/relationships/slideLayout" Target="../slideLayouts/slideLayout184.xml"/><Relationship Id="rId15" Type="http://schemas.openxmlformats.org/officeDocument/2006/relationships/slideLayout" Target="../slideLayouts/slideLayout185.xml"/><Relationship Id="rId16" Type="http://schemas.openxmlformats.org/officeDocument/2006/relationships/slideLayout" Target="../slideLayouts/slideLayout186.xml"/><Relationship Id="rId17" Type="http://schemas.openxmlformats.org/officeDocument/2006/relationships/slideLayout" Target="../slideLayouts/slideLayout187.xml"/><Relationship Id="rId18" Type="http://schemas.openxmlformats.org/officeDocument/2006/relationships/slideLayout" Target="../slideLayouts/slideLayout188.xml"/><Relationship Id="rId19" Type="http://schemas.openxmlformats.org/officeDocument/2006/relationships/slideLayout" Target="../slideLayouts/slideLayout189.xml"/><Relationship Id="rId20" Type="http://schemas.openxmlformats.org/officeDocument/2006/relationships/slideLayout" Target="../slideLayouts/slideLayout190.xml"/><Relationship Id="rId21" Type="http://schemas.openxmlformats.org/officeDocument/2006/relationships/slideLayout" Target="../slideLayouts/slideLayout191.xml"/><Relationship Id="rId2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93.xml"/><Relationship Id="rId12" Type="http://schemas.openxmlformats.org/officeDocument/2006/relationships/slideLayout" Target="../slideLayouts/slideLayout194.xml"/><Relationship Id="rId13" Type="http://schemas.openxmlformats.org/officeDocument/2006/relationships/slideLayout" Target="../slideLayouts/slideLayout195.xml"/><Relationship Id="rId14" Type="http://schemas.openxmlformats.org/officeDocument/2006/relationships/slideLayout" Target="../slideLayouts/slideLayout196.xml"/><Relationship Id="rId15" Type="http://schemas.openxmlformats.org/officeDocument/2006/relationships/slideLayout" Target="../slideLayouts/slideLayout197.xml"/><Relationship Id="rId16" Type="http://schemas.openxmlformats.org/officeDocument/2006/relationships/slideLayout" Target="../slideLayouts/slideLayout198.xml"/><Relationship Id="rId17" Type="http://schemas.openxmlformats.org/officeDocument/2006/relationships/slideLayout" Target="../slideLayouts/slideLayout199.xml"/><Relationship Id="rId18" Type="http://schemas.openxmlformats.org/officeDocument/2006/relationships/slideLayout" Target="../slideLayouts/slideLayout200.xml"/><Relationship Id="rId19" Type="http://schemas.openxmlformats.org/officeDocument/2006/relationships/slideLayout" Target="../slideLayouts/slideLayout201.xml"/><Relationship Id="rId20" Type="http://schemas.openxmlformats.org/officeDocument/2006/relationships/slideLayout" Target="../slideLayouts/slideLayout202.xml"/><Relationship Id="rId21" Type="http://schemas.openxmlformats.org/officeDocument/2006/relationships/slideLayout" Target="../slideLayouts/slideLayout203.xml"/><Relationship Id="rId22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42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433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1120" y="2959200"/>
            <a:ext cx="109220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0" y="0"/>
            <a:ext cx="12318840" cy="5448240"/>
            <a:chOff x="0" y="0"/>
            <a:chExt cx="12318840" cy="5448240"/>
          </a:xfrm>
        </p:grpSpPr>
        <p:pic>
          <p:nvPicPr>
            <p:cNvPr id="527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48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247480"/>
            <a:ext cx="546084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041120" y="4965840"/>
            <a:ext cx="5460840" cy="179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61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0" y="0"/>
            <a:ext cx="12318840" cy="5448240"/>
            <a:chOff x="0" y="0"/>
            <a:chExt cx="12318840" cy="5448240"/>
          </a:xfrm>
        </p:grpSpPr>
        <p:pic>
          <p:nvPicPr>
            <p:cNvPr id="624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48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3"/>
    <p:sldLayoutId id="2147483819" r:id="rId14"/>
    <p:sldLayoutId id="2147483820" r:id="rId15"/>
    <p:sldLayoutId id="2147483821" r:id="rId16"/>
    <p:sldLayoutId id="2147483822" r:id="rId17"/>
    <p:sldLayoutId id="2147483823" r:id="rId18"/>
    <p:sldLayoutId id="2147483824" r:id="rId19"/>
    <p:sldLayoutId id="2147483825" r:id="rId20"/>
    <p:sldLayoutId id="2147483826" r:id="rId21"/>
    <p:sldLayoutId id="2147483827" r:id="rId22"/>
    <p:sldLayoutId id="2147483828" r:id="rId23"/>
    <p:sldLayoutId id="2147483829" r:id="rId2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66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71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1041120" y="1510920"/>
            <a:ext cx="109220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4068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75708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15272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54836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9440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1"/>
    <p:sldLayoutId id="2147483845" r:id="rId12"/>
    <p:sldLayoutId id="2147483846" r:id="rId13"/>
    <p:sldLayoutId id="2147483847" r:id="rId14"/>
    <p:sldLayoutId id="2147483848" r:id="rId15"/>
    <p:sldLayoutId id="2147483849" r:id="rId16"/>
    <p:sldLayoutId id="2147483850" r:id="rId17"/>
    <p:sldLayoutId id="2147483851" r:id="rId18"/>
    <p:sldLayoutId id="2147483852" r:id="rId19"/>
    <p:sldLayoutId id="2147483853" r:id="rId20"/>
    <p:sldLayoutId id="2147483854" r:id="rId21"/>
    <p:sldLayoutId id="2147483855" r:id="rId2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1"/>
    <p:sldLayoutId id="2147483858" r:id="rId12"/>
    <p:sldLayoutId id="2147483859" r:id="rId13"/>
    <p:sldLayoutId id="2147483860" r:id="rId14"/>
    <p:sldLayoutId id="2147483861" r:id="rId15"/>
    <p:sldLayoutId id="2147483862" r:id="rId16"/>
    <p:sldLayoutId id="2147483863" r:id="rId17"/>
    <p:sldLayoutId id="2147483864" r:id="rId18"/>
    <p:sldLayoutId id="2147483865" r:id="rId19"/>
    <p:sldLayoutId id="2147483866" r:id="rId20"/>
    <p:sldLayoutId id="2147483867" r:id="rId21"/>
    <p:sldLayoutId id="2147483868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56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289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337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385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3.png"/><Relationship Id="rId3" Type="http://schemas.openxmlformats.org/officeDocument/2006/relationships/hyperlink" Target="http://www.tinyurl.com/ams628" TargetMode="External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apimages.com/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15560" y="1980720"/>
            <a:ext cx="10960200" cy="382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World Genocide Project</a:t>
            </a:r>
            <a:br>
              <a:rPr sz="8000"/>
            </a:b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The Elements of Inhumanity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1120" y="628632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By Tracy Taylor &amp; Tiffany Ulanowicz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Tes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tudents create 5 test questions as part of their projec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tudent created questions are then utilized to create a test on all of the genocide presentation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Utilize a review game with students the day before the tes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Timeline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Research = 4-5 class perio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Letter = 2-3 class perio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Working on presentation = 10 class perio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Actual presentation days = 7 class perio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Review &amp; Test = 2 class perio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otal Time = 5-6 week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After studying the Holocaust and completing the world genocide project, we take a field trip to the Holocaust Museum in Washingt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tudents appreciate it more after learning of the horrible things that have occurred and that are occurring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We feel they grow as people by completing the projec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Future Idea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Add some sort of community service/genocide awareness activitie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Have students actually write a lesson plan with objectives, materials &amp; procedure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s is still a work in progres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Pennsylvania Standard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6" name=""/>
          <p:cNvSpPr/>
          <p:nvPr/>
        </p:nvSpPr>
        <p:spPr>
          <a:xfrm>
            <a:off x="976320" y="3060720"/>
            <a:ext cx="1057896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d69"/>
                </a:solidFill>
                <a:latin typeface="Hoefler Text"/>
                <a:ea typeface="Hoefler Text"/>
              </a:rPr>
              <a:t>History Standards </a:t>
            </a: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d69"/>
                </a:solidFill>
                <a:latin typeface="Hoefler Text"/>
                <a:ea typeface="Hoefler Text"/>
              </a:rPr>
              <a:t>8.1.12.B, 8.1.12.C, 8.1.12.D, 8.4.12.B, 8.4.12.D </a:t>
            </a: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d69"/>
                </a:solidFill>
                <a:latin typeface="Hoefler Text"/>
                <a:ea typeface="Hoefler Text"/>
              </a:rPr>
              <a:t>Geography Standards </a:t>
            </a: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d69"/>
                </a:solidFill>
                <a:latin typeface="Hoefler Text"/>
                <a:ea typeface="Hoefler Text"/>
              </a:rPr>
              <a:t>7.3.12B </a:t>
            </a: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d69"/>
                </a:solidFill>
                <a:latin typeface="Hoefler Text"/>
                <a:ea typeface="Hoefler Text"/>
              </a:rPr>
              <a:t>Reading, Writing, Speaking and Listening </a:t>
            </a: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d69"/>
                </a:solidFill>
                <a:latin typeface="Hoefler Text"/>
                <a:ea typeface="Hoefler Text"/>
              </a:rPr>
              <a:t>1.4.8B, 1.6.11E, 1.6.11F</a:t>
            </a:r>
            <a:endParaRPr b="0" lang="en-US" sz="32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1120" y="533160"/>
            <a:ext cx="1092204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World Genocide Project</a:t>
            </a:r>
            <a:br>
              <a:rPr sz="8000"/>
            </a:b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The Elements of Inhumanity</a:t>
            </a:r>
            <a:endParaRPr b="0" lang="en-US" sz="80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8" name=""/>
          <p:cNvSpPr/>
          <p:nvPr/>
        </p:nvSpPr>
        <p:spPr>
          <a:xfrm>
            <a:off x="1148760" y="5115240"/>
            <a:ext cx="1069452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All supporting papers/handout are available at 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46413b"/>
                </a:solidFill>
                <a:uFillTx/>
                <a:latin typeface="Hoefler Text"/>
                <a:ea typeface="Hoefler Text"/>
              </a:rPr>
              <a:t>www.bhsworldhistory.wikispaces.com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iMovie examples are also available on the wiki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39960" y="139680"/>
            <a:ext cx="1092168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07" name=""/>
          <p:cNvSpPr/>
          <p:nvPr/>
        </p:nvSpPr>
        <p:spPr>
          <a:xfrm>
            <a:off x="3467160" y="1930320"/>
            <a:ext cx="585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How the project evolved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</p:txBody>
      </p:sp>
      <p:sp>
        <p:nvSpPr>
          <p:cNvPr id="808" name=""/>
          <p:cNvSpPr/>
          <p:nvPr/>
        </p:nvSpPr>
        <p:spPr>
          <a:xfrm>
            <a:off x="635040" y="2781360"/>
            <a:ext cx="11531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After the first year of teaching the Holocaust, we realized that our students and most people thought that the Holocaust was the only genocide to ever occur.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By teaching the unit on genocide, we are also trying to incorporate character education into our curriculum.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 rot="629400">
            <a:off x="6462360" y="2463480"/>
            <a:ext cx="5816520" cy="68500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1" name=""/>
          <p:cNvSpPr/>
          <p:nvPr/>
        </p:nvSpPr>
        <p:spPr>
          <a:xfrm>
            <a:off x="533520" y="2971800"/>
            <a:ext cx="590544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Armenia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Cambodia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Rwanda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Darfur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Bosnia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Ukraine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Nanking (Nanjing)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Research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Writing a personal letter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Putting the project together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iMovie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Presentation 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es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 rot="600000">
            <a:off x="5662080" y="2705040"/>
            <a:ext cx="7050240" cy="629928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Research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25480" y="2793960"/>
            <a:ext cx="481320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each student is given the 11 research question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25160" indent="-42516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each student must turn in questions for a grade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25160" indent="-42516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4_5 class period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25160" indent="-42516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list of websites, but not limited to these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25160" indent="-42516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Hoefler Text"/>
                <a:hlinkClick r:id="rId3"/>
              </a:rPr>
              <a:t>www.tinyurl.com/ams628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riting Letter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35040" y="2793600"/>
            <a:ext cx="11328480" cy="638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3 primary source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assess understanding 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us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Hoefler Text"/>
                <a:hlinkClick r:id="rId2"/>
              </a:rPr>
              <a:t>www.apimages.com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2-3 class periods 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137200" y="2844720"/>
            <a:ext cx="756900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Putting the Project Together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1" name=""/>
          <p:cNvSpPr/>
          <p:nvPr/>
        </p:nvSpPr>
        <p:spPr>
          <a:xfrm>
            <a:off x="851040" y="2717640"/>
            <a:ext cx="1129032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This was the hardest task for the students.  They had to take what they learned and now decide how to teach their classmates.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We wanted them to create, not just get up in front of their classmates and lecture - the very thing they hate!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PowerPoint and Keynote were not options until we see what they had to go with it.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iMovie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eir presentation had to include an iMovie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We gave them great flexibility with thi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Most students are familiar, but we reviewed the basics with them before starting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10 class periods to work on presentation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41120" y="533160"/>
            <a:ext cx="1092204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World Genocide Project</a:t>
            </a:r>
            <a:br>
              <a:rPr sz="6800"/>
            </a:b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Presentation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 rot="1533000">
            <a:off x="6819480" y="3198960"/>
            <a:ext cx="5118120" cy="61354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47640" y="3073320"/>
            <a:ext cx="63626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Minimum of 20 minutes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Include an iMovie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Must answer all 11 research questions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Must include a map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13b"/>
                </a:solidFill>
                <a:latin typeface="Hoefler Text"/>
                <a:ea typeface="Hoefler Text"/>
              </a:rPr>
              <a:t>Can give in-class assignments</a:t>
            </a:r>
            <a:endParaRPr b="0" lang="en-US" sz="38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